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24A-E709-42A9-9946-5EF5737B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B0E-71BE-44D5-A367-89F4E8A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968-792D-48AD-84A9-E5980B25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428-6438-441D-824B-59BE65CD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CE04-389C-443C-9B44-79BEA1D9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466-4C59-4CEE-B250-52604DF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9BC-1B70-44E7-9D73-5EC80A2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A97-3E69-4F5D-8530-A91F7A2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06C7-2832-4A53-B861-8EFFB2F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FCB5-85D5-4023-A99E-188FC0A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8A26-11AF-4B84-B5A2-90B201A4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287-9888-49AB-BDE2-C21F937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6E34-4760-4E1E-B2E5-DE6C540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C7A-0C59-443C-9995-41B6119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3E81-401B-4817-A923-5E0B178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2A82-1BFA-4ED2-BD0D-494A5964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75A3-785A-4B5C-A517-75624F66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C55-C605-4462-B21E-6C3AFDC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861-C9DC-4FF4-8BFA-5701744E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7CC-2855-46D8-A28B-35A725E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79C-D858-4223-9185-3645D9A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FF4-7529-486B-AC75-145F1B1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817-7CCB-4493-8540-51C906C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D36-3B36-4CF2-9EAD-29A05A3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4EF-5607-40E4-AE89-4B5446EE740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5DC-9FC0-4FCA-B31B-D7207294419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arlettown.f9.co.uk/rose.gif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virtual.clemson.edu/groups/FieldOps/Cgs/images/SHAMROCK.GIF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arlettown.f9.co.uk/rose.gif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rtual.clemson.edu/groups/FieldOps/Cgs/images/SHAMROCK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0" y="6021360"/>
            <a:ext cx="45720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A story told by Mr Roman Mazurkiewi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2565360"/>
            <a:ext cx="244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Symbo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9480" y="6397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1484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7080" y="2276640"/>
            <a:ext cx="702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b7e7ff"/>
                </a:solidFill>
                <a:latin typeface="Arial"/>
              </a:rPr>
              <a:t>Great Brita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362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b7e7ff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762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National Ant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9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6">
                                  <p:stCondLst>
                                    <p:cond delay="1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b7e7ff"/>
                </a:solidFill>
                <a:latin typeface="Arial"/>
              </a:rPr>
              <a:t>The national flowers of the UK 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484280"/>
            <a:ext cx="115560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2637000"/>
            <a:ext cx="1065240" cy="126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211640" y="3645000"/>
            <a:ext cx="1278000" cy="129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300720" y="5013360"/>
            <a:ext cx="1293840" cy="127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8160" y="5589720"/>
            <a:ext cx="14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Daffod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7800" y="414972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T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7440" y="2924280"/>
            <a:ext cx="17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Shamr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9440" y="17733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2057040"/>
            <a:ext cx="410364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he national flower of England is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r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It has been 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emblem since the time of the Wars of the Roses (1455-148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1040" y="1676520"/>
            <a:ext cx="361800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203640" y="98100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advTm="12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41860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he national flower of Northern Ireland is the shamr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It has been used by St.Patrick to illustrate the Holy Tri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916280"/>
            <a:ext cx="3795840" cy="442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895480" y="9907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Arial Black"/>
              </a:rPr>
              <a:t>Shamr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12000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419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he Scottish national flower is the this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It was first used in the 15th century as a symbol of def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95480" y="1143000"/>
            <a:ext cx="2667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Thist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114720" cy="31687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2276640"/>
            <a:ext cx="419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he national flower of Wales is the daffod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It is traditionally worn on St. David`s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59280" y="9810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Daffod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457440" cy="34081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b7e7ff"/>
                </a:solidFill>
                <a:uFillTx/>
                <a:latin typeface="Times New Roman"/>
              </a:rPr>
              <a:t>God save The Queen</a:t>
            </a:r>
            <a:r>
              <a:rPr b="1" lang="pl-PL" sz="3600" spc="-1" strike="noStrike">
                <a:solidFill>
                  <a:srgbClr val="b7e7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419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od save our gracious Que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ong live our noble Que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od save The Que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end her victoriou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Happy and gloriou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ong to reign over u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od save The Que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 Lord our God, ari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catter our enemie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nd make them fal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onfound their politic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Frustrate their knavish trick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n thee our hopes we fix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od save us a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Thy choicest gifts in sto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n her be pleased to pour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ong may she reig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ay she defend our law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And ever give us cau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To sing with heart and voic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od save The Que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3689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394080" cy="38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64000" y="3933720"/>
            <a:ext cx="121608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771640" y="2492280"/>
            <a:ext cx="1138320" cy="993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348000" y="404640"/>
            <a:ext cx="2117880" cy="30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2205000"/>
            <a:ext cx="2182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84640"/>
            <a:ext cx="2303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Scot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292640"/>
            <a:ext cx="2254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W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57720"/>
            <a:ext cx="362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b7e7ff"/>
                </a:solidFill>
                <a:latin typeface="Arial"/>
              </a:rPr>
              <a:t>The United Kingdom is made up of the countries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The Union Jack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Great Brit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534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England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t George’s Cro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95640" y="2392200"/>
            <a:ext cx="48117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Scotland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t Andrew’s Cross</a:t>
            </a: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00364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Northern Ireland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 - St Patrick's Cross</a:t>
            </a: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0720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329080" cy="375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Wales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– Dragon of Cadwalla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240000" cy="203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3240000" cy="2116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316872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3168720" cy="21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859280" y="3429000"/>
            <a:ext cx="3168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2.59259E-006 L 0.22466 0.21967 E">
                                      <p:cBhvr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9.44444E-006 3.00578E-006 L -0.23628 0.20994 E">
                                      <p:cBhvr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-1.32948E-006 L 0.22049 -0.17711 E">
                                      <p:cBhvr>
                                        <p:cTn id="17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0:47:40Z</dcterms:created>
  <dc:creator>student13c</dc:creator>
  <dc:description/>
  <dc:language>en-US</dc:language>
  <cp:lastModifiedBy>Roman Mazurkiewicz</cp:lastModifiedBy>
  <dcterms:modified xsi:type="dcterms:W3CDTF">2002-12-18T23:22:27Z</dcterms:modified>
  <cp:revision>37</cp:revision>
  <dc:subject/>
  <dc:title>Odmiany języka angielskiego</dc:title>
</cp:coreProperties>
</file>